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900-5820-4A98-99B0-9E070BE6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90C-3434-42B4-A172-1F6BA300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A3A-CD88-4F74-9A61-2E45B895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8D4-5DED-4487-BE9A-98A47DE4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0FE2-8DFA-4168-9709-0EAE5D77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2D5C-D41D-4FCA-B8D1-AA129444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2C95-E734-4784-849F-951B1300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3813-DA85-4A68-A4CD-F345EBED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4BDF-7DFA-47AA-BCCF-4AAB6C6B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C6A1-2403-445E-99AD-73136C9D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4165-7471-4D8C-A543-F0AE0056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AC2-3C11-4328-9E66-176D3BC1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71CB-334C-4A55-8599-14C3B0DC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C826-4994-4140-91FC-2569B226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ECEA-3622-414C-A675-03276CFA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F8AF-CBD8-4241-BEED-4A29FCCF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7874-07DF-4633-995C-8EE561AB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84F0D-4C3A-4BE9-BE43-B8004D17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F7330-49F7-4AC3-81EB-15704D8E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4B079-A930-453F-ACC7-1651E0E5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FF5D2-DD44-4C79-B81C-235690C4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0197E-BB29-495B-8110-9111A1DD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007E-A61B-4C85-BE2B-E953CC7C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18938-A0CF-4F96-B347-CCCD9186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99564-888C-4197-8FF0-93AC5136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30DE3-859B-4E6C-B321-22740845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3048E-BC6E-4E1F-A226-C5DBB5CE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AFF59-4A6E-4ACD-A48D-256C0800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1CA3B-67D3-4E50-B1A0-77F0EACA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B3614-3550-4864-B95E-4784407B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17ED30-6C42-442B-80D0-F9709AB4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1BDFE1-E850-49DA-90A6-F2226657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F67F69-D7C3-49BA-8B6C-4AEDA961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B167-26DB-421C-AB36-C3CA6D53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60DA9E-67C0-4E51-84DC-9AE41A5B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D0E543-B27B-472D-AFAF-553FDDC0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88A914-1F32-4B52-BA22-852E613D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BC6567-9C82-4388-A17E-AD847F41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1DF8FC-6D5D-4265-9A9F-FFF4C617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8F250-13B9-4997-AE39-89619E35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0F3810-FC26-4FC4-89E6-342361BC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F29E53-7455-491D-A001-8989055F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603840-79DC-4F58-9F5C-B3C89038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592-7238-4411-BBE9-75070695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58A-E287-4BC8-BF09-0BEAFFB1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6BC6-13DA-41CF-914C-173505F6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A1D-73A3-4DF4-9A10-C9072036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3CF-D364-4A85-8FC4-BEE7580A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807CE3-D918-47B2-A0DC-15267FFC0CA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09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7B9EE-CF3F-4A3D-9423-9FE076C7748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84A36EE-CA60-4758-B8C8-F1087CC082D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E3EFE03-5C82-455E-99CB-3ADA3EB353E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hyperlink" Target="http://www.youtube.com/watch?v=nxVwsKNv08Q&amp;feature=player_embedded" TargetMode="Externa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s.wikipedia.org/wiki/Andr&#243;nico_de_Rodas" TargetMode="External"/><Relationship Id="rId3" Type="http://schemas.openxmlformats.org/officeDocument/2006/relationships/hyperlink" Target="http://es.wikipedia.org/wiki/Arist&#243;teles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s.wikipedia.org/wiki/Arist&#243;teles" TargetMode="External"/><Relationship Id="rId3" Type="http://schemas.openxmlformats.org/officeDocument/2006/relationships/hyperlink" Target="http://es.wikipedia.org/wiki/Ser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Times New Roman"/>
              </a:rPr>
              <a:t>LA PREGUNTA FILOSÓFICA POR LA REALIDA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Times New Roman"/>
              </a:rPr>
              <a:t>El problema alma-cuerpo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ualismo de Plat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edón (la inmortalidad del alm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-396720" y="-171360"/>
            <a:ext cx="9793080" cy="7345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26920" y="189000"/>
            <a:ext cx="71298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¿Qué nace, pues de la vida?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La muerte -respondió Cebes.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¿Y qué nace de la muerte?-insistió Sócrates.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Es necesario admitir que de ella nace la vida.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Así pues, Cebes, ¿La vida y los seres vivientes se engendran de los muertos?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Así parece-contestó Cebes.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¿Nuestras almas están, pues, en el Hades?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Cierto.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¿Y una de las dos generaciones, en este caso, no es sensible? ¿Sabemos o no qué es el morir?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Lo sabemos.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¿Qué haremos pues?-prosiguió Sócrates-, ¿No hemos de admitir en ella la generación contraria, porque si no la Naturaleza sería deficiente? ¿No es necesario admitir que la muerte tiene su generación contraria?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Efectivamente-afirmó Cebes.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¿Y cuál es ese contrario?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Renac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-324000" y="-104760"/>
            <a:ext cx="9649080" cy="7099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-252360" y="0"/>
            <a:ext cx="3168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El Mito de la       Cave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3640" y="609300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95640" y="5805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Dualismo metafísic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54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undo sensible y mundo de las ide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pinión (doxa) contrapuesta a la ciencia (epistem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156360" y="1905120"/>
            <a:ext cx="25304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Platón distingue dos modos de realidad</a:t>
            </a: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realidad inteligible, a la que denomina "Idea", tiene las características de ser inmaterial, eterna, (ingenerada e indestructible), pues, siendo, por lo tanto, ajena al cambio, y constituye el modelo o arquetipo de la otra realidad, la sen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realidad sensible, por lo tanto tiene las características de ser material, corruptible, (sometida al cambio, esto es, a la generación y a la destrucción), y que resulta no ser más que una copia de la realidad inteligibl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Conócete a ti mismo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mo conclusión podemos afirmar que la metafísica podría resumirse en esta sent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trata pues de un autoconomicimiento, que en la modernidad comenzará partiendo del propio sujet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 el propio sujeto el que percibirá el mundo, por lo que la pregunta no solo es ¿qué es la realidad?, sino también ¿qué soy y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b7e7ff"/>
                </a:solidFill>
                <a:latin typeface="Times New Roman"/>
              </a:rPr>
              <a:t>Metafísica como una puerta hacia una nueva “</a:t>
            </a:r>
            <a:r>
              <a:rPr b="0" i="1" lang="es-ES" sz="4000" spc="-1" strike="noStrike">
                <a:solidFill>
                  <a:srgbClr val="b7e7ff"/>
                </a:solidFill>
                <a:latin typeface="Times New Roman"/>
              </a:rPr>
              <a:t>realidad</a:t>
            </a:r>
            <a:r>
              <a:rPr b="0" lang="es-ES" sz="4000" spc="-1" strike="noStrike">
                <a:solidFill>
                  <a:srgbClr val="b7e7ff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692360" y="1676520"/>
            <a:ext cx="5543640" cy="52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b7e7ff"/>
                </a:solidFill>
                <a:latin typeface="Times New Roman"/>
              </a:rPr>
              <a:t>Pero…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Times New Roman"/>
              </a:rPr>
              <a:t>¿Qué es la metafísica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Times New Roman"/>
              </a:rPr>
              <a:t>¿De dónde surge y porqué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Times New Roman"/>
              </a:rPr>
              <a:t>¿Para qué la metafísica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nombre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metafísic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roviene del título puesto por </a:t>
            </a:r>
            <a:r>
              <a:rPr b="0" lang="es-E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ndrónico de Rod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a una colección de escritos de </a:t>
            </a:r>
            <a:r>
              <a:rPr b="0" lang="es-ES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Aristótel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por tratar de temas que iban más allá de la naturalez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4648320" y="1676520"/>
            <a:ext cx="4194000" cy="44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b7e7ff"/>
                </a:solidFill>
                <a:latin typeface="Times New Roman"/>
              </a:rPr>
              <a:t>¿Qué es la metafísica?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 saber que aborda el estudio de la realidad, del ser y de todo cuanto exis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una “ciencia” del ser. También llamada ontolog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ristótel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 Estagira, elaboró lo que él llamaba una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“filosofía primera”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cuyo principal objetivo era el estudio del 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Se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cuanto tal, de sus atributos y sus caus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b7e7ff"/>
                </a:solidFill>
                <a:latin typeface="Times New Roman"/>
              </a:rPr>
              <a:t>¿Es la metafísica una ciencia?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8591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Kant pretende hacer de la metafísica ciencia, pero el conocimiento científico se apoya en los datos de la experi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gún Kant, una afirmación es metafísica cuando afirma algo sustancial o relevante sobre un asunto que por principio escapa a toda posibilidad de ser experimentado sensiblemente por el ser human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metafísica no se apoya en datos de la experiencia, va más allá. Las ideas metafísicas son “ilusiones de la razón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b7e7ff"/>
                </a:solidFill>
                <a:latin typeface="Times New Roman"/>
              </a:rPr>
              <a:t>Pero a pesar de ello…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razón humana siempre se planteará aquellos interrogantes que no tienen solución, como ¿de dónde venimos?, ¿a dónde vamos?, ¿Existe Dios?, ¿Tiene algún sentido la vida o es puro az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 ello, el preguntarnos acerca de cuestiones metafísicas es una “necesidad inevitabl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-173160"/>
            <a:ext cx="8510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b7e7ff"/>
                </a:solidFill>
                <a:latin typeface="Times New Roman"/>
              </a:rPr>
              <a:t>La consciencia atrapada en la caja de Pandora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7160"/>
            <a:ext cx="85104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sciencia como el rasgo más fundamental del ser humano, nos permite “darnos cuenta de alg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r ello somos un “animal racional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ciencia como una vuelta a uno mismo: Platón habla del diálogo del alma con uno mismo. Esa vuelta a sí mismo es una “re-flexión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l hombre es un dios cuando sueña y un mendigo cuando reflexiona” (Hölderl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10:14:13Z</dcterms:created>
  <dc:creator>WinuE</dc:creator>
  <dc:description/>
  <dc:language>en-US</dc:language>
  <cp:lastModifiedBy>WinuE</cp:lastModifiedBy>
  <dcterms:modified xsi:type="dcterms:W3CDTF">2011-04-03T22:15:42Z</dcterms:modified>
  <cp:revision>16</cp:revision>
  <dc:subject/>
  <dc:title>LA PREGUNTA FILOSÓFICA POR LA REALIDAD</dc:title>
</cp:coreProperties>
</file>